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2BBB-A03E-4D5B-BF6C-C8E5250CE6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B39-701A-45C5-AED1-54D3CFFB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8FB-34C0-43FC-848D-99A5E747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35F-4764-44CF-BE0A-C6577976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382-80AC-4744-9E0E-26641EA9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AAB-1903-4122-A1F8-FC0E6170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A78-7946-411E-8499-472CA57D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3AD-1318-4570-A25E-5E3BC57D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A22-31DB-4A5B-9B06-35DC9797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452-7FF7-47BA-88BE-447BB3D7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D81-AB98-4EED-B022-BD8C724E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C09-1E5E-455F-88BE-E0A73E25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B3D-C16E-4429-9AF5-3A2E4B0A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B390-BB2D-4197-AB20-4E7187E244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684360" y="3645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3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7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2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8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LEGION2</cp:lastModifiedBy>
  <dcterms:modified xsi:type="dcterms:W3CDTF">2015-12-14T11:21:54Z</dcterms:modified>
  <cp:revision>10</cp:revision>
  <dc:subject/>
  <dc:title>Slide 1</dc:title>
</cp:coreProperties>
</file>